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45F4-0C3D-4D22-84B9-4F0740CF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31B3-B630-4C68-B8CD-F95A1C0C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97E-1448-454D-9A18-95E164CB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93E6-B981-4BE1-9A73-9C3B3BA0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08B4-8B7E-412F-8FA2-979AA1AC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CBC6-6EBF-4715-9700-3A255CD6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7D0-2835-490B-AEF2-93553B9C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89F4-284A-4181-851E-3AAB4D22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3AEB-B048-4C14-B3C2-CBFC3EC4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B1A4-1E51-44C8-B403-23597C9F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8C1A-0D33-4AA7-8DE5-BC0B87F6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763-82C6-4241-B3B8-D41E61FB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D2D6-AB06-4F69-8915-58DA83DC1B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79280" y="339840"/>
            <a:ext cx="885060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89" name="TextBox 1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97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5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13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21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0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9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0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42" name="Прямоугольник 10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1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4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4"/>
          <p:cNvSpPr/>
          <p:nvPr/>
        </p:nvSpPr>
        <p:spPr>
          <a:xfrm>
            <a:off x="142920" y="106200"/>
            <a:ext cx="2017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5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7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ик 1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85" name="Стрелка вниз 1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89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93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97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1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5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9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13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17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21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556000" y="136440"/>
            <a:ext cx="53290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62" name="Прямоугольник 1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66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4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82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86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90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94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5"/>
          <p:cNvSpPr/>
          <p:nvPr/>
        </p:nvSpPr>
        <p:spPr>
          <a:xfrm>
            <a:off x="1253160" y="320760"/>
            <a:ext cx="675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МЕДИА - АЛФАВ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24160" y="1531800"/>
            <a:ext cx="6419520" cy="32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142920" y="106200"/>
            <a:ext cx="2000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6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7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4"/>
          <p:cNvSpPr/>
          <p:nvPr/>
        </p:nvSpPr>
        <p:spPr>
          <a:xfrm>
            <a:off x="15408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Савина Дарья Александровна</cp:lastModifiedBy>
  <dcterms:modified xsi:type="dcterms:W3CDTF">2023-01-24T15:29:37Z</dcterms:modified>
  <cp:revision>126</cp:revision>
  <dc:subject/>
  <dc:title>Слайд 1</dc:title>
</cp:coreProperties>
</file>